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F4C-E4DE-4DBA-9769-884ACD8A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3DE-90FE-43E6-8782-37B44A6B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A11-854C-4099-9826-226E77E0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D929-AA0F-418D-B57C-16EA547D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139C-C139-464C-91D2-1BC7EF42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BA5B-754E-41FF-B056-7ACC444B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48FC-347B-4885-8CF2-C3219E75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6BCB-3672-46A9-BDA5-EE33DE37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F3D6-ECDA-451D-99CF-7C67CF1F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E12A-88F9-4A67-82C9-DD14725D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5792-CDFD-43E3-88C1-D02934FE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BDB-361A-4266-8914-C7088C9A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912D-3CBE-4251-A1DB-B4D34E24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B8CC-0027-44C3-AEB4-14A69BDF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6678-4307-4BBB-89C1-E1538A88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93ED-90F3-47D2-B986-E74C8501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3976-D72C-4F5A-88DF-E4906AE4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4BF6-D82A-4E5F-8035-3871A3A8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A8F-AD84-4C30-B7F0-98D924D1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6C4-A47A-451A-A1BC-2F1184A6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9AF-3A6E-453D-BEEB-4C76D07F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43C-43BB-47DD-A3D6-43ADE138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442-C0D8-451C-920D-FA4C1049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3E9-E938-4066-ACA0-45BAB4FA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FAE19-7E27-4741-AC01-25AE780865D4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75E3D-9DEE-4D85-93DF-BD33404946E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6931E-2DF2-49AA-995A-F390CDB662FF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508EF-37D7-4C31-96BC-5F27E31EF75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60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: Brian Jewel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119520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3" descr="94.jpg"/>
          <p:cNvPicPr/>
          <p:nvPr/>
        </p:nvPicPr>
        <p:blipFill>
          <a:blip r:embed="rId3"/>
          <a:srcRect l="-9926" t="0" r="-9926" b="0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Macintosh HD:Users:student:Desktop:motor-boat-open-motor-yacht-186050.jpg" descr=""/>
          <p:cNvPicPr/>
          <p:nvPr/>
        </p:nvPicPr>
        <p:blipFill>
          <a:blip r:embed="rId3"/>
          <a:stretch/>
        </p:blipFill>
        <p:spPr>
          <a:xfrm>
            <a:off x="762120" y="1600200"/>
            <a:ext cx="76183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3" descr="motor-yacht-charter.jpg"/>
          <p:cNvPicPr/>
          <p:nvPr/>
        </p:nvPicPr>
        <p:blipFill>
          <a:blip r:embed="rId3"/>
          <a:srcRect l="-8247" t="0" r="-8247" b="0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3" descr="brochure_140296.jpg"/>
          <p:cNvPicPr/>
          <p:nvPr/>
        </p:nvPicPr>
        <p:blipFill>
          <a:blip r:embed="rId3"/>
          <a:srcRect l="0" t="-33913" r="0" b="-33913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3" descr="sailboats.jpg"/>
          <p:cNvPicPr/>
          <p:nvPr/>
        </p:nvPicPr>
        <p:blipFill>
          <a:blip r:embed="rId3"/>
          <a:srcRect l="-9222" t="0" r="-9222" b="0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17:55:57Z</dcterms:created>
  <dc:creator>College of Education</dc:creator>
  <dc:description/>
  <dc:language>en-US</dc:language>
  <cp:lastModifiedBy>College of Education</cp:lastModifiedBy>
  <dcterms:modified xsi:type="dcterms:W3CDTF">2009-07-25T19:18:34Z</dcterms:modified>
  <cp:revision>2</cp:revision>
  <dc:subject/>
  <dc:title>The Waterway</dc:title>
</cp:coreProperties>
</file>